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2C1-AA9E-4695-9D0A-2C202B9F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142-692A-4D25-BCDB-DE2C233E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C2F-14D1-4127-B101-83B925CA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244-B902-46DE-80B7-3E269B3A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E254D-A1DC-4E4C-9DD8-AAE5A59E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6AFDC-65FC-460A-8420-417D0D1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035A3-979F-4BB9-86A2-46B021F4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4578-2A13-4A27-8672-7A42D478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00256-91D8-41DA-BDD7-D840A203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268E3-CB02-40A3-BA87-6639CA4B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BA03F-A44D-4797-8673-880BC87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761-C48A-45F4-AA11-51C9D8C9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208D5-9484-4409-9862-A099822A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C9E5F-B0D7-4330-B38E-B7E2DE5F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FD8E1-9D2B-4960-8512-831BB0FE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57061-E93C-4C07-9DDF-398F4B20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FF97C-5262-4CD9-886E-634EB5D6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CE1-D69F-4ED3-8618-DED2036B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BEA-D37E-4316-B72F-F3CD39C4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C46-17B1-483D-94CB-3C49972C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846-66E9-4D3F-9BB4-7B97639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B47-09B7-445E-B721-69BADCD4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0DD-FEED-4D69-BDB6-6BBF130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97C-6BEC-4504-9787-D96A6F7D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BB8D-46DA-4B9B-BA4F-A91C1D116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6C16-000E-443A-AAEB-A9620C565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upload.wikimedia.org/wikipedia/commons/5/5d/Carl_Spitzweg_008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a/Samuel_Palmer_005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8/8d/Johann_Heinrich_F&#252;ssli_053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Romanticis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ish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. Bloem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n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that you know a little about Romanticism, how do you think the romantic words we thought of as a group connect to the literary movem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the words we thought of deal with reason and science or with emotion and individual experien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wd the picture :: Cloud heart"/>
          <p:cNvPicPr/>
          <p:nvPr/>
        </p:nvPicPr>
        <p:blipFill>
          <a:blip r:embed="rId2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from wikipedia and wiki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duke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mantici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manticism is a movement that took place in the late 1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manticism extended to literature, art and even philoso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ing by Caspar David Friedrich (18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Image:Caspar David Friedrich 027.jpg"/>
          <p:cNvPicPr/>
          <p:nvPr/>
        </p:nvPicPr>
        <p:blipFill>
          <a:blip r:embed="rId2"/>
          <a:stretch/>
        </p:blipFill>
        <p:spPr>
          <a:xfrm>
            <a:off x="4495680" y="160020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ements of Romantici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elements in Romantic literature are: The rights of the common people, a revolutionary spirit and the growth of industrializ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ing by Alfred Rethel (1834)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Image:Alfred Rethel 001.jpg"/>
          <p:cNvPicPr/>
          <p:nvPr/>
        </p:nvPicPr>
        <p:blipFill>
          <a:blip r:embed="rId3"/>
          <a:stretch/>
        </p:blipFill>
        <p:spPr>
          <a:xfrm>
            <a:off x="4495680" y="1295280"/>
            <a:ext cx="43434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ments of Romanticism Continu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mantic writers and artists rejected science and reason and embraced nature, emotion, individual experiences and imagi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ing by Carl Spitzweg (186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00" y="295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0" y="295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Image:Carl Spitzweg 0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447920"/>
            <a:ext cx="4200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mantic Subject 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mantic writing often deals with the following subjec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pism from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quest for beau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e as a source for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e as a refu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e as a revelation of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ting by Samuel Palmer (183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Image:Samuel Palmer 00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295280"/>
            <a:ext cx="4191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mantic Subject Matter Continu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mantic writers also often deal with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interest in folklore and the supernatu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jects from common life, not upper-class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vidual experiences; like hopes and dre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ting by Johann Fussli (180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Image:Johann Heinrich Füssli 05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152360"/>
            <a:ext cx="41148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mantic Attitu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tic writing appeals to the imag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tic writing stresses emotion, not re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tic writing is generally optim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mantic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mantic writers often celebrated freedom from the rules and conventions of wri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times, Romantic writers used improbable, or unlikely plo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nguage used in Romantic writing was often the language of the common people, not the upper-cla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inting by Joseph Wright (177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Image:Joseph Wright 003.jpg"/>
          <p:cNvPicPr/>
          <p:nvPr/>
        </p:nvPicPr>
        <p:blipFill>
          <a:blip r:embed="rId2"/>
          <a:stretch/>
        </p:blipFill>
        <p:spPr>
          <a:xfrm>
            <a:off x="4495680" y="1447920"/>
            <a:ext cx="4419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Romantic He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ero of many Romantic writings was a rebellious and moody per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ero typically was filled with passion and a strong wi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ing by Caspar David Friedrich (181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Image:Caspar David Friedrich 032.jpg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4:49Z</dcterms:created>
  <dc:creator>user</dc:creator>
  <dc:description/>
  <dc:language>en-US</dc:language>
  <cp:lastModifiedBy>user</cp:lastModifiedBy>
  <dcterms:modified xsi:type="dcterms:W3CDTF">2007-02-05T15:55:52Z</dcterms:modified>
  <cp:revision>3</cp:revision>
  <dc:subject/>
  <dc:title>What is Romanticism?</dc:title>
</cp:coreProperties>
</file>